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ali11.wav" ContentType="audio/x-wav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Custom Show 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05E-ED21-4E89-83CD-F1F475CE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413-D470-4859-A3C8-09D27237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1DC-B463-495A-957D-1AE51C15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A75-16ED-401C-ADFF-608ABC83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479-04E2-4CA5-B7AE-9866CB61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8D5-43E1-471A-8D54-2354CEC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F08-B1C9-4BDA-8FA7-9A25F67F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991-E2BC-417F-B952-F6801F78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50C-6DD1-4F9A-945D-87C90B02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8EE-05F8-4656-9AAD-37522BE1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B74-20A6-4AC4-A0E9-34A425FB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40C-FFAF-480C-BC4D-D11D5C0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EE4F-3E4F-464C-877C-09D4726B0714}" type="slidenum">
              <a:rPr b="0" lang="fa-I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li11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8000"/>
                </a:solidFill>
                <a:latin typeface="Arial Unicode MS"/>
                <a:cs typeface="Badr"/>
              </a:rPr>
              <a:t>اَلْحَمْدُ للهِ الَّذي جَعَلَنا مِنَ الْمُتَمَسِّكينَ بولايةِ اميرالمومنينَ و الائمَه المعصومين عليهم السَّلا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976480"/>
            <a:ext cx="82296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Unicode MS"/>
                <a:cs typeface="Badr"/>
              </a:rPr>
              <a:t>اَلْحَمْدُ للهِ الَّذي جَعَلَنا مِنَ الْمُتَمَسِّكينَ بولايةِ اميرالمومنينَ و الائمَه المعصومين عَليهُم السَّلا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579920"/>
            <a:ext cx="82296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Unicode MS"/>
                <a:cs typeface="Nazanin"/>
              </a:rPr>
              <a:t>تمامي سپاسها خداوندي را سزد كه ما را از درآويختگان به رشتة ولايت امير مومنان و امامان پس از او قرار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45964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55000">
    <p:fade/>
    <p:sndAc>
      <p:stSnd>
        <p:snd r:embed="rId3" name="ali1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1">
                                  <p:stCondLst>
                                    <p:cond delay="89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1">
                                  <p:stCondLst>
                                    <p:cond delay="24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49200"/>
            <a:ext cx="5076720" cy="41004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49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1:54:58Z</dcterms:created>
  <dc:creator>mahdi</dc:creator>
  <dc:description/>
  <dc:language>en-US</dc:language>
  <cp:lastModifiedBy>sami</cp:lastModifiedBy>
  <dcterms:modified xsi:type="dcterms:W3CDTF">2005-01-25T09:18:38Z</dcterms:modified>
  <cp:revision>49</cp:revision>
  <dc:subject/>
  <dc:title>اَلْحَمْدُ للهِ الَّذي جَعَلَنا مِنَ الْمُتَمَسِّكينَ بولايةِ اميرالمِومنينَ و الائمَةِ عليهم السَّلام </dc:title>
</cp:coreProperties>
</file>