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203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1937-3B49-4511-B512-7A977679F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0FFC-1480-4848-B3C0-02374575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4A91-7280-4F1D-8ADD-0BC022553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8A34-9020-4554-A62B-DDD91AFA0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5617-619D-42BE-9436-05F66C57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0128-E93C-48F2-85B0-127FF795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2826-783E-4E60-947A-0B035D1A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91EB-3F17-464D-854F-C3D68588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63BB-2361-43E5-8133-7DADA46F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6482-E6AE-4ED8-9AC5-2DE3995C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52D5-C481-4B9D-80F2-61B33B1C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BFD8-E142-4EE7-BB82-BE7FFEE0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E9DE-0637-4F2C-BF2C-CFD911202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203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esk1"/>
          <p:cNvSpPr/>
          <p:nvPr/>
        </p:nvSpPr>
        <p:spPr>
          <a:xfrm>
            <a:off x="3851280" y="246240"/>
            <a:ext cx="1441440" cy="661680"/>
          </a:xfrm>
          <a:prstGeom prst="pie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93800" y="1546200"/>
          <a:ext cx="7561080" cy="3251160"/>
        </p:xfrm>
        <a:graphic>
          <a:graphicData uri="http://schemas.openxmlformats.org/drawingml/2006/table">
            <a:tbl>
              <a:tblPr/>
              <a:tblGrid>
                <a:gridCol w="1512360"/>
                <a:gridCol w="1511640"/>
                <a:gridCol w="1512720"/>
                <a:gridCol w="1511280"/>
                <a:gridCol w="1513080"/>
              </a:tblGrid>
              <a:tr h="162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>
                          <a:solidFill>
                            <a:srgbClr val="507cff"/>
                          </a:solidFill>
                          <a:latin typeface="Arial"/>
                          <a:ea typeface="Titr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Titr"/>
                          <a:hlinkClick r:id="rId2" action="ppaction://hlinksldjump"/>
                        </a:rPr>
                        <a:t>2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Titr"/>
                          <a:hlinkClick r:id="rId3" action="ppaction://hlinksldjump"/>
                        </a:rPr>
                        <a:t>3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Titr"/>
                          <a:hlinkClick r:id="rId4" action="ppaction://hlinksldjump"/>
                        </a:rPr>
                        <a:t>4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>
                          <a:solidFill>
                            <a:srgbClr val="507cff"/>
                          </a:solidFill>
                          <a:latin typeface="Arial"/>
                          <a:ea typeface="Titr"/>
                        </a:rPr>
                        <a:t>5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  <a:tr h="162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Titr"/>
                          <a:hlinkClick r:id="rId5" action="ppaction://hlinksldjump"/>
                        </a:rPr>
                        <a:t>6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Titr"/>
                          <a:hlinkClick r:id="rId6" action="ppaction://hlinksldjump"/>
                        </a:rPr>
                        <a:t>7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>
                          <a:solidFill>
                            <a:srgbClr val="507cff"/>
                          </a:solidFill>
                          <a:latin typeface="Arial"/>
                          <a:ea typeface="Titr"/>
                        </a:rPr>
                        <a:t>8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>
                          <a:solidFill>
                            <a:srgbClr val="507cff"/>
                          </a:solidFill>
                          <a:latin typeface="Arial"/>
                          <a:ea typeface="Titr"/>
                        </a:rPr>
                        <a:t>9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>
                          <a:solidFill>
                            <a:srgbClr val="507cff"/>
                          </a:solidFill>
                          <a:latin typeface="Arial"/>
                          <a:ea typeface="Titr"/>
                        </a:rPr>
                        <a:t>10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1908000" y="127080"/>
            <a:ext cx="5257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ff"/>
                </a:solidFill>
                <a:latin typeface="Arial"/>
                <a:cs typeface="Titr"/>
              </a:rPr>
              <a:t>مسابقه</a:t>
            </a:r>
            <a:r>
              <a:rPr b="1" lang="ar-SA" sz="5000" spc="-1" strike="noStrike">
                <a:solidFill>
                  <a:srgbClr val="507cff"/>
                </a:solidFill>
                <a:latin typeface="Arial"/>
                <a:ea typeface="Titr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5950080"/>
            <a:ext cx="2810160" cy="368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cs typeface="Nazanin"/>
                <a:hlinkClick r:id="rId7" action="ppaction://hlinksldjump"/>
              </a:rPr>
              <a:t>رمز1 </a:t>
            </a:r>
            <a:r>
              <a:rPr b="1" lang="ar-SA" sz="1800" spc="-1" strike="noStrike">
                <a:solidFill>
                  <a:srgbClr val="ff0000"/>
                </a:solidFill>
                <a:latin typeface="Arial"/>
                <a:ea typeface="Nazanin"/>
              </a:rPr>
              <a:t>         </a:t>
            </a: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cs typeface="Nazanin"/>
                <a:hlinkClick r:id="rId8" action="ppaction://hlinksldjump"/>
              </a:rPr>
              <a:t>رمز مسابق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>
            <a:hlinkClick r:id="" action="ppaction://hlinkshowjump?jump=firstslide"/>
          </p:cNvPr>
          <p:cNvSpPr/>
          <p:nvPr/>
        </p:nvSpPr>
        <p:spPr>
          <a:xfrm>
            <a:off x="4673520" y="652464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507cff"/>
              </a:gs>
              <a:gs pos="100000">
                <a:srgbClr val="84a2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esk1"/>
          <p:cNvSpPr/>
          <p:nvPr/>
        </p:nvSpPr>
        <p:spPr>
          <a:xfrm>
            <a:off x="3492360" y="246240"/>
            <a:ext cx="2016360" cy="661680"/>
          </a:xfrm>
          <a:prstGeom prst="pie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Nazanin"/>
              </a:rPr>
              <a:t>کلمات رم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1840" y="1413000"/>
            <a:ext cx="8497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200" spc="-1" strike="noStrike">
                <a:solidFill>
                  <a:srgbClr val="ff9900"/>
                </a:solidFill>
                <a:latin typeface="Arial"/>
                <a:cs typeface="Titr"/>
              </a:rPr>
              <a:t>راهنماست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>
            <a:hlinkClick r:id="" action="ppaction://hlinkshowjump?jump=firstslide"/>
          </p:cNvPr>
          <p:cNvSpPr/>
          <p:nvPr/>
        </p:nvSpPr>
        <p:spPr>
          <a:xfrm>
            <a:off x="4673520" y="652464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507cff"/>
              </a:gs>
              <a:gs pos="100000">
                <a:srgbClr val="84a2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51640" y="2925720"/>
            <a:ext cx="1295640" cy="1150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66"/>
                </a:solidFill>
                <a:latin typeface="IPT.Jadid"/>
                <a:cs typeface="IPT.Jadid"/>
              </a:rPr>
              <a:t>اما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3280" y="2925720"/>
            <a:ext cx="1368360" cy="1150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66"/>
                </a:solidFill>
                <a:latin typeface="IPT.Jadid"/>
                <a:cs typeface="IPT.Jadid"/>
              </a:rPr>
              <a:t>دلي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2925720"/>
            <a:ext cx="1079640" cy="1150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66"/>
                </a:solidFill>
                <a:latin typeface="IPT.Jadid"/>
                <a:cs typeface="IPT.Jadid"/>
              </a:rPr>
              <a:t>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16360" y="2925720"/>
            <a:ext cx="2232000" cy="1150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66"/>
                </a:solidFill>
                <a:latin typeface="IPT.Jadid"/>
                <a:cs typeface="IPT.Jadid"/>
              </a:rPr>
              <a:t>راهنماس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50920" y="2925720"/>
            <a:ext cx="865440" cy="1150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66"/>
                </a:solidFill>
                <a:latin typeface="IPT.Jadid"/>
                <a:cs typeface="IPT.Jadid"/>
              </a:rPr>
              <a:t>ب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6560" y="2925720"/>
            <a:ext cx="1584360" cy="1150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66"/>
                </a:solidFill>
                <a:latin typeface="IPT.Jadid"/>
                <a:cs typeface="IPT.Jadid"/>
              </a:rPr>
              <a:t>هداي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1640" y="2925720"/>
            <a:ext cx="1297080" cy="11509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ff0000"/>
                </a:solidFill>
                <a:latin typeface="IPT.Jadid"/>
                <a:cs typeface="IPT.Jadid"/>
              </a:rPr>
              <a:t>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3280" y="2925720"/>
            <a:ext cx="1368360" cy="11509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IPT.Jadid"/>
                <a:ea typeface="IPT.Jadid"/>
              </a:rPr>
              <a:t>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48360" y="2925720"/>
            <a:ext cx="934920" cy="11509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IPT.Jadid"/>
                <a:ea typeface="IPT.Jadid"/>
              </a:rPr>
              <a:t>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14560" y="2925720"/>
            <a:ext cx="2232000" cy="11509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IPT.Jadid"/>
                <a:ea typeface="IPT.Jadid"/>
              </a:rPr>
              <a:t>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50920" y="2925720"/>
            <a:ext cx="862200" cy="11509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IPT.Jadid"/>
                <a:ea typeface="IPT.Jadid"/>
              </a:rPr>
              <a:t>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6560" y="2925720"/>
            <a:ext cx="1584360" cy="11509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IPT.Jadid"/>
                <a:ea typeface="IPT.Jadid"/>
              </a:rPr>
              <a:t>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desk1"/>
          <p:cNvSpPr/>
          <p:nvPr/>
        </p:nvSpPr>
        <p:spPr>
          <a:xfrm>
            <a:off x="3492360" y="390600"/>
            <a:ext cx="2016360" cy="662040"/>
          </a:xfrm>
          <a:prstGeom prst="pie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Nazanin"/>
              </a:rPr>
              <a:t>کلمات رم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remove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remove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remove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remove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remove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remove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4673520" y="652464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507cff"/>
              </a:gs>
              <a:gs pos="100000">
                <a:srgbClr val="84a2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desk1"/>
          <p:cNvSpPr/>
          <p:nvPr/>
        </p:nvSpPr>
        <p:spPr>
          <a:xfrm>
            <a:off x="3492360" y="246240"/>
            <a:ext cx="2016360" cy="661680"/>
          </a:xfrm>
          <a:prstGeom prst="pie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Nazanin"/>
              </a:rPr>
              <a:t>رمز جد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5229360"/>
            <a:ext cx="360072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Titr"/>
              </a:rPr>
              <a:t>امام رضا عليه السلا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3" name="203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13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166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esk1"/>
          <p:cNvSpPr/>
          <p:nvPr/>
        </p:nvSpPr>
        <p:spPr>
          <a:xfrm>
            <a:off x="3492360" y="246240"/>
            <a:ext cx="2016360" cy="661680"/>
          </a:xfrm>
          <a:prstGeom prst="pie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Nazanin"/>
              </a:rPr>
              <a:t>کلمات رم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4673520" y="652464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507cff"/>
              </a:gs>
              <a:gs pos="100000">
                <a:srgbClr val="84a2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6920" y="1052640"/>
            <a:ext cx="6527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700" spc="-1" strike="noStrike">
                <a:solidFill>
                  <a:srgbClr val="ff0000"/>
                </a:solidFill>
                <a:latin typeface="Arial"/>
                <a:cs typeface="Titr"/>
              </a:rPr>
              <a:t>پوچ</a:t>
            </a:r>
            <a:endParaRPr b="0" lang="en-US" sz="2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esk1"/>
          <p:cNvSpPr/>
          <p:nvPr/>
        </p:nvSpPr>
        <p:spPr>
          <a:xfrm>
            <a:off x="3492360" y="246240"/>
            <a:ext cx="2016360" cy="661680"/>
          </a:xfrm>
          <a:prstGeom prst="pie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Nazanin"/>
              </a:rPr>
              <a:t>کلمات رم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firstslide"/>
          </p:cNvPr>
          <p:cNvSpPr/>
          <p:nvPr/>
        </p:nvSpPr>
        <p:spPr>
          <a:xfrm>
            <a:off x="4673520" y="652464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507cff"/>
              </a:gs>
              <a:gs pos="100000">
                <a:srgbClr val="84a2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6920" y="1052640"/>
            <a:ext cx="6527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700" spc="-1" strike="noStrike">
                <a:solidFill>
                  <a:srgbClr val="ff0000"/>
                </a:solidFill>
                <a:latin typeface="Arial"/>
                <a:cs typeface="Titr"/>
              </a:rPr>
              <a:t>پوچ</a:t>
            </a:r>
            <a:endParaRPr b="0" lang="en-US" sz="2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esk1"/>
          <p:cNvSpPr/>
          <p:nvPr/>
        </p:nvSpPr>
        <p:spPr>
          <a:xfrm>
            <a:off x="3492360" y="246240"/>
            <a:ext cx="2016360" cy="661680"/>
          </a:xfrm>
          <a:prstGeom prst="pie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Nazanin"/>
              </a:rPr>
              <a:t>کلمات رم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firstslide"/>
          </p:cNvPr>
          <p:cNvSpPr/>
          <p:nvPr/>
        </p:nvSpPr>
        <p:spPr>
          <a:xfrm>
            <a:off x="4673520" y="652464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507cff"/>
              </a:gs>
              <a:gs pos="100000">
                <a:srgbClr val="84a2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6920" y="1052640"/>
            <a:ext cx="6527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700" spc="-1" strike="noStrike">
                <a:solidFill>
                  <a:srgbClr val="ff0000"/>
                </a:solidFill>
                <a:latin typeface="Arial"/>
                <a:cs typeface="Titr"/>
              </a:rPr>
              <a:t>پوچ</a:t>
            </a:r>
            <a:endParaRPr b="0" lang="en-US" sz="2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desk1"/>
          <p:cNvSpPr/>
          <p:nvPr/>
        </p:nvSpPr>
        <p:spPr>
          <a:xfrm>
            <a:off x="3492360" y="246240"/>
            <a:ext cx="2016360" cy="661680"/>
          </a:xfrm>
          <a:prstGeom prst="pie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Nazanin"/>
              </a:rPr>
              <a:t>کلمات رم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firstslide"/>
          </p:cNvPr>
          <p:cNvSpPr/>
          <p:nvPr/>
        </p:nvSpPr>
        <p:spPr>
          <a:xfrm>
            <a:off x="4673520" y="652464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507cff"/>
              </a:gs>
              <a:gs pos="100000">
                <a:srgbClr val="84a2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1840" y="1413000"/>
            <a:ext cx="8497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700" spc="-1" strike="noStrike">
                <a:solidFill>
                  <a:srgbClr val="ff9900"/>
                </a:solidFill>
                <a:latin typeface="Arial"/>
                <a:cs typeface="Titr"/>
              </a:rPr>
              <a:t>امـام</a:t>
            </a:r>
            <a:endParaRPr b="0" lang="en-US" sz="2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firstslide"/>
          </p:cNvPr>
          <p:cNvSpPr/>
          <p:nvPr/>
        </p:nvSpPr>
        <p:spPr>
          <a:xfrm>
            <a:off x="4673520" y="652464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507cff"/>
              </a:gs>
              <a:gs pos="100000">
                <a:srgbClr val="84a2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esk1"/>
          <p:cNvSpPr/>
          <p:nvPr/>
        </p:nvSpPr>
        <p:spPr>
          <a:xfrm>
            <a:off x="3492360" y="318960"/>
            <a:ext cx="2016360" cy="662040"/>
          </a:xfrm>
          <a:prstGeom prst="pie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Nazanin"/>
              </a:rPr>
              <a:t>کلمات رم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1840" y="1413000"/>
            <a:ext cx="8497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700" spc="-1" strike="noStrike">
                <a:solidFill>
                  <a:srgbClr val="ff9900"/>
                </a:solidFill>
                <a:latin typeface="Arial"/>
                <a:cs typeface="Titr"/>
              </a:rPr>
              <a:t>دليل</a:t>
            </a:r>
            <a:endParaRPr b="0" lang="en-US" sz="2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>
            <a:hlinkClick r:id="" action="ppaction://hlinkshowjump?jump=firstslide"/>
          </p:cNvPr>
          <p:cNvSpPr/>
          <p:nvPr/>
        </p:nvSpPr>
        <p:spPr>
          <a:xfrm>
            <a:off x="4673520" y="652464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507cff"/>
              </a:gs>
              <a:gs pos="100000">
                <a:srgbClr val="84a2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esk1"/>
          <p:cNvSpPr/>
          <p:nvPr/>
        </p:nvSpPr>
        <p:spPr>
          <a:xfrm>
            <a:off x="3492360" y="246240"/>
            <a:ext cx="2016360" cy="661680"/>
          </a:xfrm>
          <a:prstGeom prst="pie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Nazanin"/>
              </a:rPr>
              <a:t>کلمات رم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1840" y="1436760"/>
            <a:ext cx="8497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200" spc="-1" strike="noStrike">
                <a:solidFill>
                  <a:srgbClr val="ff9900"/>
                </a:solidFill>
                <a:latin typeface="Arial"/>
                <a:cs typeface="Titr"/>
              </a:rPr>
              <a:t>هدايت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>
            <a:hlinkClick r:id="" action="ppaction://hlinkshowjump?jump=firstslide"/>
          </p:cNvPr>
          <p:cNvSpPr/>
          <p:nvPr/>
        </p:nvSpPr>
        <p:spPr>
          <a:xfrm>
            <a:off x="4673520" y="652464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507cff"/>
              </a:gs>
              <a:gs pos="100000">
                <a:srgbClr val="84a2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desk1"/>
          <p:cNvSpPr/>
          <p:nvPr/>
        </p:nvSpPr>
        <p:spPr>
          <a:xfrm>
            <a:off x="3492360" y="246240"/>
            <a:ext cx="2016360" cy="661680"/>
          </a:xfrm>
          <a:prstGeom prst="pie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Nazanin"/>
              </a:rPr>
              <a:t>کلمات رم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3640" y="1412640"/>
            <a:ext cx="8497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700" spc="-1" strike="noStrike">
                <a:solidFill>
                  <a:srgbClr val="ff9900"/>
                </a:solidFill>
                <a:latin typeface="Arial"/>
                <a:cs typeface="Titr"/>
              </a:rPr>
              <a:t>و</a:t>
            </a:r>
            <a:endParaRPr b="0" lang="en-US" sz="25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>
            <a:hlinkClick r:id="" action="ppaction://hlinkshowjump?jump=firstslide"/>
          </p:cNvPr>
          <p:cNvSpPr/>
          <p:nvPr/>
        </p:nvSpPr>
        <p:spPr>
          <a:xfrm>
            <a:off x="4673520" y="652464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507cff"/>
              </a:gs>
              <a:gs pos="100000">
                <a:srgbClr val="84a2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desk1"/>
          <p:cNvSpPr/>
          <p:nvPr/>
        </p:nvSpPr>
        <p:spPr>
          <a:xfrm>
            <a:off x="3492360" y="246240"/>
            <a:ext cx="2016360" cy="661680"/>
          </a:xfrm>
          <a:prstGeom prst="pie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Nazanin"/>
              </a:rPr>
              <a:t>کلمات رم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1484280"/>
            <a:ext cx="8497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700" spc="-1" strike="noStrike">
                <a:solidFill>
                  <a:srgbClr val="ff9900"/>
                </a:solidFill>
                <a:latin typeface="Arial"/>
                <a:cs typeface="Titr"/>
              </a:rPr>
              <a:t>بر</a:t>
            </a:r>
            <a:endParaRPr b="0" lang="en-US" sz="2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15:13:07Z</dcterms:created>
  <dc:creator>farhad</dc:creator>
  <dc:description/>
  <dc:language>en-US</dc:language>
  <cp:lastModifiedBy>sami</cp:lastModifiedBy>
  <dcterms:modified xsi:type="dcterms:W3CDTF">2005-01-25T05:32:49Z</dcterms:modified>
  <cp:revision>87</cp:revision>
  <dc:subject/>
  <dc:title>Slide 1</dc:title>
</cp:coreProperties>
</file>